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8DE-013D-4AFC-AC18-3B6EE4B486D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TURO: Progreso en Qca. Biol. = Desarrollo EN Cs. De la Salud = Responsab. de poseer conocim.básico para aplicar/investi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5BD-52A3-4BDC-93B2-466AAAE2181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Catabólicas: ATP y coenzimas reducidas o “transportadores de En” que se usan en las Anabólicas: convierten precursores en 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0BDF-DE99-4947-BAED-1FB16CF8102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F1A-A9A9-4A67-838A-6531ACB27A1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. Intermedio /Intermediario: Activ. de todas rutas metab, en q interv. Precursores, Metabolitos y Productos de Baja Masa Mol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1B3-2913-4EF3-867D-091A82EC063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095-DED8-4E6C-86DE-76CE6213E0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1317-80B5-4BA0-8BF3-5EE76142FE6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AE6-ABEE-4406-88A8-A007612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DAB-7A0F-4ECB-B913-2073A434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2F6-7C4E-4E4B-88BF-82289719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10B-5477-4DD0-867A-8A2E0B6D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058-B96D-428B-A3F3-2A8BFEBB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B46-5CA1-4E5E-98AC-CF40AC6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F6D-B2CB-4257-8789-11C8372A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EB4-32A1-445F-B411-4945654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815-3CDF-4ADA-9FEF-0F2DD92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A17-C062-435C-A342-77D2B19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074-4ECD-4592-9319-3F0DFFD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B3E-088F-4A9F-83C0-A86E1CB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959-B55C-4E77-9801-3CDD6A196D7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hyperlink" Target="http://quimicabiologicaunsl.wikispaces.com/farmacia" TargetMode="External"/><Relationship Id="rId4" Type="http://schemas.openxmlformats.org/officeDocument/2006/relationships/hyperlink" Target="http://quimicabiologicaunsl.wikispaces.com/biologia.molecular" TargetMode="External"/><Relationship Id="rId5" Type="http://schemas.openxmlformats.org/officeDocument/2006/relationships/hyperlink" Target="http://quimicabiologicaunsl.wikispaces.com/ingenieria" TargetMode="External"/><Relationship Id="rId6" Type="http://schemas.openxmlformats.org/officeDocument/2006/relationships/hyperlink" Target="http://quimicabiologicaunsl.wikispaces.com/analista.biologico" TargetMode="External"/><Relationship Id="rId7" Type="http://schemas.openxmlformats.org/officeDocument/2006/relationships/hyperlink" Target="http://quimicabiologicaunsl.wikispaces.com/Optativo+en+plantas" TargetMode="External"/><Relationship Id="rId8" Type="http://schemas.openxmlformats.org/officeDocument/2006/relationships/hyperlink" Target="http://quimicabiologicaunsl.wikispaces.com/lic.nutricion" TargetMode="External"/><Relationship Id="rId9" Type="http://schemas.openxmlformats.org/officeDocument/2006/relationships/hyperlink" Target="http://quimicabiologicaunsl.wikispaces.com/lic.quimica" TargetMode="External"/><Relationship Id="rId10" Type="http://schemas.openxmlformats.org/officeDocument/2006/relationships/hyperlink" Target="http://quimicabiologicaunsl.wikispaces.com/lic.biologicas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8082" TargetMode="External"/><Relationship Id="rId3" Type="http://schemas.openxmlformats.org/officeDocument/2006/relationships/hyperlink" Target="http://planesestudio.unsl.edu.ar/index.php?action=matProg&amp;fac=10&amp;car=42&amp;mat=217&amp;plan=11/09&amp;version=2" TargetMode="External"/><Relationship Id="rId4" Type="http://schemas.openxmlformats.org/officeDocument/2006/relationships/hyperlink" Target="http://planesestudio.unsl.edu.ar/index.php?action=correlat&amp;fac=10&amp;car=42&amp;plan=11/09&amp;version=2&amp;mat=217" TargetMode="External"/><Relationship Id="rId5" Type="http://schemas.openxmlformats.org/officeDocument/2006/relationships/hyperlink" Target="http://cargaprogramas.unsl.edu.ar/fmn-programas/public_view.php?p=18083" TargetMode="External"/><Relationship Id="rId6" Type="http://schemas.openxmlformats.org/officeDocument/2006/relationships/hyperlink" Target="http://cargaprogramas.unsl.edu.ar/fmn-programas/public_view.php?p=15501" TargetMode="External"/><Relationship Id="rId7" Type="http://schemas.openxmlformats.org/officeDocument/2006/relationships/hyperlink" Target="http://planesestudio.unsl.edu.ar/index.php?action=matProg&amp;fac=10&amp;car=42&amp;mat=841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841" TargetMode="External"/><Relationship Id="rId9" Type="http://schemas.openxmlformats.org/officeDocument/2006/relationships/hyperlink" Target="http://cargaprogramas.unsl.edu.ar/fmn-programas/public_view.php?p=17936" TargetMode="External"/><Relationship Id="rId10" Type="http://schemas.openxmlformats.org/officeDocument/2006/relationships/hyperlink" Target="http://cargaprogramas.unsl.edu.ar/fmn-programas/public_view.php?p=15857" TargetMode="External"/><Relationship Id="rId11" Type="http://schemas.openxmlformats.org/officeDocument/2006/relationships/hyperlink" Target="http://planesestudio.unsl.edu.ar/index.php?action=matProg&amp;fac=10&amp;car=42&amp;mat=842&amp;plan=11/09&amp;version=2" TargetMode="External"/><Relationship Id="rId12" Type="http://schemas.openxmlformats.org/officeDocument/2006/relationships/hyperlink" Target="http://planesestudio.unsl.edu.ar/index.php?action=correlat&amp;fac=10&amp;car=42&amp;plan=11/09&amp;version=2&amp;mat=842" TargetMode="External"/><Relationship Id="rId13" Type="http://schemas.openxmlformats.org/officeDocument/2006/relationships/hyperlink" Target="http://cargaprogramas.unsl.edu.ar/fmn-programas/public_view.php?p=17945" TargetMode="External"/><Relationship Id="rId14" Type="http://schemas.openxmlformats.org/officeDocument/2006/relationships/hyperlink" Target="http://cargaprogramas.unsl.edu.ar/fmn-programas/public_view.php?p=15858" TargetMode="External"/><Relationship Id="rId15" Type="http://schemas.openxmlformats.org/officeDocument/2006/relationships/hyperlink" Target="http://planesestudio.unsl.edu.ar/index.php?action=matProg&amp;fac=10&amp;car=42&amp;mat=843&amp;plan=11/09&amp;version=2" TargetMode="External"/><Relationship Id="rId16" Type="http://schemas.openxmlformats.org/officeDocument/2006/relationships/hyperlink" Target="http://planesestudio.unsl.edu.ar/index.php?action=correlat&amp;fac=10&amp;car=42&amp;plan=11/09&amp;version=2&amp;mat=843" TargetMode="External"/><Relationship Id="rId17" Type="http://schemas.openxmlformats.org/officeDocument/2006/relationships/hyperlink" Target="http://cargaprogramas.unsl.edu.ar/fmn-programas/public_view.php?p=15538" TargetMode="External"/><Relationship Id="rId18" Type="http://schemas.openxmlformats.org/officeDocument/2006/relationships/hyperlink" Target="http://planesestudio.unsl.edu.ar/index.php?action=matProg&amp;fac=10&amp;car=42&amp;mat=226&amp;plan=11/09&amp;version=2" TargetMode="External"/><Relationship Id="rId19" Type="http://schemas.openxmlformats.org/officeDocument/2006/relationships/hyperlink" Target="http://planesestudio.unsl.edu.ar/index.php?action=correlat&amp;fac=10&amp;car=42&amp;plan=11/09&amp;version=2&amp;mat=226" TargetMode="External"/><Relationship Id="rId20" Type="http://schemas.openxmlformats.org/officeDocument/2006/relationships/hyperlink" Target="http://cargaprogramas.unsl.edu.ar/fmn-programas/public_view.php?p=15528" TargetMode="External"/><Relationship Id="rId21" Type="http://schemas.openxmlformats.org/officeDocument/2006/relationships/hyperlink" Target="http://planesestudio.unsl.edu.ar/index.php?action=matProg&amp;fac=10&amp;car=42&amp;mat=31&amp;plan=11/09&amp;version=2" TargetMode="External"/><Relationship Id="rId22" Type="http://schemas.openxmlformats.org/officeDocument/2006/relationships/hyperlink" Target="http://planesestudio.unsl.edu.ar/index.php?action=correlat&amp;fac=10&amp;car=42&amp;plan=11/09&amp;version=2&amp;mat=31" TargetMode="External"/><Relationship Id="rId23" Type="http://schemas.openxmlformats.org/officeDocument/2006/relationships/hyperlink" Target="http://cargaprogramas.unsl.edu.ar/fmn-programas/public_view.php?p=18635" TargetMode="External"/><Relationship Id="rId24" Type="http://schemas.openxmlformats.org/officeDocument/2006/relationships/hyperlink" Target="http://planesestudio.unsl.edu.ar/index.php?action=matProg&amp;fac=10&amp;car=42&amp;mat=791&amp;plan=11/09&amp;version=2" TargetMode="External"/><Relationship Id="rId25" Type="http://schemas.openxmlformats.org/officeDocument/2006/relationships/hyperlink" Target="http://planesestudio.unsl.edu.ar/index.php?action=correlat&amp;fac=10&amp;car=42&amp;plan=11/09&amp;version=2&amp;mat=791" TargetMode="External"/><Relationship Id="rId26" Type="http://schemas.openxmlformats.org/officeDocument/2006/relationships/hyperlink" Target="http://cargaprogramas.unsl.edu.ar/fmn-programas/public_view.php?p=16968" TargetMode="External"/><Relationship Id="rId27" Type="http://schemas.openxmlformats.org/officeDocument/2006/relationships/hyperlink" Target="http://cargaprogramas.unsl.edu.ar/fmn-programas/public_view.php?p=16970" TargetMode="External"/><Relationship Id="rId28" Type="http://schemas.openxmlformats.org/officeDocument/2006/relationships/hyperlink" Target="http://planesestudio.unsl.edu.ar/index.php?action=matProg&amp;fac=10&amp;car=42&amp;mat=844&amp;plan=11/09&amp;version=2" TargetMode="External"/><Relationship Id="rId29" Type="http://schemas.openxmlformats.org/officeDocument/2006/relationships/hyperlink" Target="http://planesestudio.unsl.edu.ar/index.php?action=correlat&amp;fac=10&amp;car=42&amp;plan=11/09&amp;version=2&amp;mat=844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7885" TargetMode="External"/><Relationship Id="rId3" Type="http://schemas.openxmlformats.org/officeDocument/2006/relationships/hyperlink" Target="http://cargaprogramas.unsl.edu.ar/fmn-programas/public_view.php?p=16014" TargetMode="External"/><Relationship Id="rId4" Type="http://schemas.openxmlformats.org/officeDocument/2006/relationships/hyperlink" Target="http://planesestudio.unsl.edu.ar/index.php?action=matProg&amp;fac=10&amp;car=42&amp;mat=22&amp;plan=11/09&amp;version=2" TargetMode="External"/><Relationship Id="rId5" Type="http://schemas.openxmlformats.org/officeDocument/2006/relationships/hyperlink" Target="http://planesestudio.unsl.edu.ar/index.php?action=correlat&amp;fac=10&amp;car=42&amp;plan=11/09&amp;version=2&amp;mat=22" TargetMode="External"/><Relationship Id="rId6" Type="http://schemas.openxmlformats.org/officeDocument/2006/relationships/hyperlink" Target="http://cargaprogramas.unsl.edu.ar/fmn-programas/public_view.php?p=18713" TargetMode="External"/><Relationship Id="rId7" Type="http://schemas.openxmlformats.org/officeDocument/2006/relationships/hyperlink" Target="http://planesestudio.unsl.edu.ar/index.php?action=matProg&amp;fac=10&amp;car=42&amp;mat=505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505" TargetMode="External"/><Relationship Id="rId9" Type="http://schemas.openxmlformats.org/officeDocument/2006/relationships/hyperlink" Target="http://cargaprogramas.unsl.edu.ar/fmn-programas/public_view.php?p=17472" TargetMode="External"/><Relationship Id="rId10" Type="http://schemas.openxmlformats.org/officeDocument/2006/relationships/hyperlink" Target="http://planesestudio.unsl.edu.ar/index.php?action=matProg&amp;fac=10&amp;car=42&amp;mat=845&amp;plan=11/09&amp;version=2" TargetMode="External"/><Relationship Id="rId11" Type="http://schemas.openxmlformats.org/officeDocument/2006/relationships/hyperlink" Target="http://planesestudio.unsl.edu.ar/index.php?action=correlat&amp;fac=10&amp;car=42&amp;plan=11/09&amp;version=2&amp;mat=845" TargetMode="External"/><Relationship Id="rId12" Type="http://schemas.openxmlformats.org/officeDocument/2006/relationships/hyperlink" Target="http://cargaprogramas.unsl.edu.ar/fmn-programas/public_view.php?p=17939" TargetMode="External"/><Relationship Id="rId13" Type="http://schemas.openxmlformats.org/officeDocument/2006/relationships/hyperlink" Target="http://cargaprogramas.unsl.edu.ar/fmn-programas/public_view.php?p=17463" TargetMode="External"/><Relationship Id="rId14" Type="http://schemas.openxmlformats.org/officeDocument/2006/relationships/hyperlink" Target="http://planesestudio.unsl.edu.ar/index.php?action=matProg&amp;fac=10&amp;car=42&amp;mat=846&amp;plan=11/09&amp;version=2" TargetMode="External"/><Relationship Id="rId15" Type="http://schemas.openxmlformats.org/officeDocument/2006/relationships/hyperlink" Target="http://planesestudio.unsl.edu.ar/index.php?action=correlat&amp;fac=10&amp;car=42&amp;plan=11/09&amp;version=2&amp;mat=846" TargetMode="External"/><Relationship Id="rId16" Type="http://schemas.openxmlformats.org/officeDocument/2006/relationships/hyperlink" Target="http://planesestudio.unsl.edu.ar/index.php?action=correlat&amp;fac=10&amp;car=42&amp;plan=11/09&amp;version=2&amp;mat=326" TargetMode="External"/><Relationship Id="rId17" Type="http://schemas.openxmlformats.org/officeDocument/2006/relationships/hyperlink" Target="http://cargaprogramas.unsl.edu.ar/fmn-programas/public_view.php?p=16947" TargetMode="External"/><Relationship Id="rId18" Type="http://schemas.openxmlformats.org/officeDocument/2006/relationships/hyperlink" Target="http://planesestudio.unsl.edu.ar/index.php?action=matProg&amp;fac=10&amp;car=42&amp;mat=847&amp;plan=11/09&amp;version=2" TargetMode="Externa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8 Grupo"/>
          <p:cNvGrpSpPr/>
          <p:nvPr/>
        </p:nvGrpSpPr>
        <p:grpSpPr>
          <a:xfrm>
            <a:off x="0" y="0"/>
            <a:ext cx="9144000" cy="6376320"/>
            <a:chOff x="0" y="0"/>
            <a:chExt cx="9144000" cy="6376320"/>
          </a:xfrm>
        </p:grpSpPr>
        <p:sp>
          <p:nvSpPr>
            <p:cNvPr id="77" name="4 CuadroTexto"/>
            <p:cNvSpPr/>
            <p:nvPr/>
          </p:nvSpPr>
          <p:spPr>
            <a:xfrm>
              <a:off x="642600" y="2357280"/>
              <a:ext cx="257184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onen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os seres v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7 CuadroTexto"/>
            <p:cNvSpPr/>
            <p:nvPr/>
          </p:nvSpPr>
          <p:spPr>
            <a:xfrm>
              <a:off x="4929120" y="2357280"/>
              <a:ext cx="350028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as transformaciones quím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ue suceden en las célu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 CuadroTexto"/>
            <p:cNvSpPr/>
            <p:nvPr/>
          </p:nvSpPr>
          <p:spPr>
            <a:xfrm>
              <a:off x="0" y="0"/>
              <a:ext cx="9144000" cy="219708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OBJETOS DE ESTUDIO DE LA QUÍMICA BIOL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Aportes de la Química Biológica a la 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9 CuadroTexto"/>
            <p:cNvSpPr/>
            <p:nvPr/>
          </p:nvSpPr>
          <p:spPr>
            <a:xfrm>
              <a:off x="5286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etabolism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uadroTexto"/>
            <p:cNvSpPr/>
            <p:nvPr/>
          </p:nvSpPr>
          <p:spPr>
            <a:xfrm>
              <a:off x="571320" y="5429160"/>
              <a:ext cx="3000240" cy="9471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oléculas biológic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12 CuadroTexto"/>
            <p:cNvSpPr/>
            <p:nvPr/>
          </p:nvSpPr>
          <p:spPr>
            <a:xfrm>
              <a:off x="714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oele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13 Flecha abajo"/>
            <p:cNvSpPr/>
            <p:nvPr/>
          </p:nvSpPr>
          <p:spPr>
            <a:xfrm>
              <a:off x="185724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14 Flecha abajo"/>
            <p:cNvSpPr/>
            <p:nvPr/>
          </p:nvSpPr>
          <p:spPr>
            <a:xfrm>
              <a:off x="1857240" y="478620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5 Flecha abajo"/>
            <p:cNvSpPr/>
            <p:nvPr/>
          </p:nvSpPr>
          <p:spPr>
            <a:xfrm>
              <a:off x="650088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16 Flecha abajo"/>
            <p:cNvSpPr/>
            <p:nvPr/>
          </p:nvSpPr>
          <p:spPr>
            <a:xfrm>
              <a:off x="185724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7 Flecha abajo"/>
            <p:cNvSpPr/>
            <p:nvPr/>
          </p:nvSpPr>
          <p:spPr>
            <a:xfrm>
              <a:off x="650088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9 CuadroTexto"/>
          <p:cNvSpPr/>
          <p:nvPr/>
        </p:nvSpPr>
        <p:spPr>
          <a:xfrm>
            <a:off x="4714920" y="1928880"/>
            <a:ext cx="39243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0 CuadroTexto"/>
          <p:cNvSpPr/>
          <p:nvPr/>
        </p:nvSpPr>
        <p:spPr>
          <a:xfrm>
            <a:off x="433440" y="1914480"/>
            <a:ext cx="338112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CuadroTexto"/>
          <p:cNvSpPr/>
          <p:nvPr/>
        </p:nvSpPr>
        <p:spPr>
          <a:xfrm>
            <a:off x="2606040" y="2467080"/>
            <a:ext cx="33858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QUÍMIC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1320840" y="928800"/>
            <a:ext cx="2649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 Black"/>
              </a:rPr>
              <a:t>BIOLOGÍ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CuadroTexto"/>
          <p:cNvSpPr/>
          <p:nvPr/>
        </p:nvSpPr>
        <p:spPr>
          <a:xfrm>
            <a:off x="5244120" y="928800"/>
            <a:ext cx="2799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CuadroTexto"/>
          <p:cNvSpPr/>
          <p:nvPr/>
        </p:nvSpPr>
        <p:spPr>
          <a:xfrm>
            <a:off x="1902600" y="4967280"/>
            <a:ext cx="167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0ac4"/>
                </a:solidFill>
                <a:latin typeface="Arial Black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8 CuadroTexto"/>
          <p:cNvGrpSpPr/>
          <p:nvPr/>
        </p:nvGrpSpPr>
        <p:grpSpPr>
          <a:xfrm>
            <a:off x="5310360" y="4846680"/>
            <a:ext cx="2242800" cy="554040"/>
            <a:chOff x="5310360" y="4846680"/>
            <a:chExt cx="2242800" cy="554040"/>
          </a:xfrm>
        </p:grpSpPr>
        <p:pic>
          <p:nvPicPr>
            <p:cNvPr id="95" name="8 CuadroTexto" descr=""/>
            <p:cNvPicPr/>
            <p:nvPr/>
          </p:nvPicPr>
          <p:blipFill>
            <a:blip r:embed="rId1"/>
            <a:stretch/>
          </p:blipFill>
          <p:spPr>
            <a:xfrm>
              <a:off x="5310360" y="4846680"/>
              <a:ext cx="22428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502600" y="489600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f0ac4"/>
                  </a:solidFill>
                  <a:latin typeface="Arial Black"/>
                </a:rPr>
                <a:t>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9 Flecha izquierda y derecha"/>
          <p:cNvSpPr/>
          <p:nvPr/>
        </p:nvSpPr>
        <p:spPr>
          <a:xfrm rot="2871600">
            <a:off x="2538360" y="182988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 Flecha izquierda y derecha"/>
          <p:cNvSpPr/>
          <p:nvPr/>
        </p:nvSpPr>
        <p:spPr>
          <a:xfrm rot="2871600">
            <a:off x="5052960" y="431136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1 Flecha izquierda y derecha"/>
          <p:cNvSpPr/>
          <p:nvPr/>
        </p:nvSpPr>
        <p:spPr>
          <a:xfrm rot="7813800">
            <a:off x="4708080" y="178560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Flecha izquierda y derecha"/>
          <p:cNvSpPr/>
          <p:nvPr/>
        </p:nvSpPr>
        <p:spPr>
          <a:xfrm rot="7813800">
            <a:off x="2493360" y="43002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3 CuadroTexto" descr=""/>
          <p:cNvPicPr/>
          <p:nvPr/>
        </p:nvPicPr>
        <p:blipFill>
          <a:blip r:embed="rId2"/>
          <a:stretch/>
        </p:blipFill>
        <p:spPr>
          <a:xfrm>
            <a:off x="420840" y="-249120"/>
            <a:ext cx="450720" cy="3163680"/>
          </a:xfrm>
          <a:prstGeom prst="rect">
            <a:avLst/>
          </a:prstGeom>
          <a:ln w="0">
            <a:noFill/>
          </a:ln>
        </p:spPr>
      </p:pic>
      <p:sp>
        <p:nvSpPr>
          <p:cNvPr id="102" name="15 CuadroTexto"/>
          <p:cNvSpPr/>
          <p:nvPr/>
        </p:nvSpPr>
        <p:spPr>
          <a:xfrm>
            <a:off x="2785320" y="3429000"/>
            <a:ext cx="3141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 Black"/>
              </a:rPr>
              <a:t>Ciencia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6 Flecha izquierda y derecha"/>
          <p:cNvSpPr/>
          <p:nvPr/>
        </p:nvSpPr>
        <p:spPr>
          <a:xfrm rot="5400000">
            <a:off x="4114440" y="3043440"/>
            <a:ext cx="428760" cy="199800"/>
          </a:xfrm>
          <a:prstGeom prst="leftRightArrow">
            <a:avLst>
              <a:gd name="adj1" fmla="val 50000"/>
              <a:gd name="adj2" fmla="val 53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7 CuadroTexto" descr=""/>
          <p:cNvPicPr/>
          <p:nvPr/>
        </p:nvPicPr>
        <p:blipFill>
          <a:blip r:embed="rId3"/>
          <a:stretch/>
        </p:blipFill>
        <p:spPr>
          <a:xfrm>
            <a:off x="8474040" y="2865600"/>
            <a:ext cx="450720" cy="3133440"/>
          </a:xfrm>
          <a:prstGeom prst="rect">
            <a:avLst/>
          </a:prstGeom>
          <a:ln w="0">
            <a:noFill/>
          </a:ln>
        </p:spPr>
      </p:pic>
      <p:sp>
        <p:nvSpPr>
          <p:cNvPr id="105" name="14 Flecha izquierda y derecha"/>
          <p:cNvSpPr/>
          <p:nvPr/>
        </p:nvSpPr>
        <p:spPr>
          <a:xfrm rot="10800000">
            <a:off x="3927600" y="50004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5 Flecha izquierda y derecha"/>
          <p:cNvSpPr/>
          <p:nvPr/>
        </p:nvSpPr>
        <p:spPr>
          <a:xfrm rot="10800000">
            <a:off x="4285800" y="1071360"/>
            <a:ext cx="71460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MPUESTOS CONSTITUYENT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LA MATERIA V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14480" y="1127160"/>
            <a:ext cx="5429160" cy="39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AGU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65%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MINERAL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óli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P, 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ION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solu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HIDRATOS DE CARBO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LÍP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PROTE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ÁCIDOS NUCLE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2080" y="1785960"/>
            <a:ext cx="2881080" cy="4597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5840" y="3071880"/>
            <a:ext cx="2857320" cy="129420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GÁ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OLÓG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214800" y="1214280"/>
            <a:ext cx="428400" cy="165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43200 h 1659240"/>
              <a:gd name="textAreaBottom" fmla="*/ 1616040 h 165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9152"/>
                </a:lnTo>
                <a:cubicBezTo>
                  <a:pt x="10800" y="10054"/>
                  <a:pt x="5400" y="10955"/>
                  <a:pt x="0" y="10955"/>
                </a:cubicBezTo>
                <a:cubicBezTo>
                  <a:pt x="5400" y="10955"/>
                  <a:pt x="10800" y="11857"/>
                  <a:pt x="10800" y="12758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214800" y="3071880"/>
            <a:ext cx="428400" cy="1643040"/>
          </a:xfrm>
          <a:custGeom>
            <a:avLst/>
            <a:gdLst>
              <a:gd name="textAreaLeft" fmla="*/ 273600 w 428400"/>
              <a:gd name="textAreaRight" fmla="*/ 428760 w 428400"/>
              <a:gd name="textAreaTop" fmla="*/ 75960 h 1643040"/>
              <a:gd name="textAreaBottom" fmla="*/ 15670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2"/>
                </a:cubicBezTo>
                <a:lnTo>
                  <a:pt x="10800" y="7764"/>
                </a:lnTo>
                <a:cubicBezTo>
                  <a:pt x="10800" y="9360"/>
                  <a:pt x="5400" y="10956"/>
                  <a:pt x="0" y="10956"/>
                </a:cubicBezTo>
                <a:cubicBezTo>
                  <a:pt x="5400" y="10956"/>
                  <a:pt x="10800" y="12552"/>
                  <a:pt x="10800" y="14148"/>
                </a:cubicBezTo>
                <a:lnTo>
                  <a:pt x="10800" y="18408"/>
                </a:lnTo>
                <a:cubicBezTo>
                  <a:pt x="10800" y="200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CuadroTexto"/>
          <p:cNvSpPr/>
          <p:nvPr/>
        </p:nvSpPr>
        <p:spPr>
          <a:xfrm>
            <a:off x="3829320" y="4857840"/>
            <a:ext cx="201996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PIGMENTOS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CuadroTexto"/>
          <p:cNvSpPr/>
          <p:nvPr/>
        </p:nvSpPr>
        <p:spPr>
          <a:xfrm>
            <a:off x="3910680" y="4857840"/>
            <a:ext cx="22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119" name="16 CuadroTexto"/>
          <p:cNvSpPr/>
          <p:nvPr/>
        </p:nvSpPr>
        <p:spPr>
          <a:xfrm>
            <a:off x="0" y="-14292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Calibri"/>
              </a:rPr>
              <a:t>(Elementos Bióg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CRO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35772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ONO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02000" y="4869000"/>
            <a:ext cx="338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POLI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262560" y="3919680"/>
            <a:ext cx="2810160" cy="286704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0" y="0"/>
            <a:ext cx="9144000" cy="1131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MOLÉ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 ESTRUCTU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ES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0" y="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: CANTIDAD REQUERIDA EN LA DIETA NO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8 CuadroTexto"/>
          <p:cNvSpPr/>
          <p:nvPr/>
        </p:nvSpPr>
        <p:spPr>
          <a:xfrm>
            <a:off x="4648680" y="2428920"/>
            <a:ext cx="38293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 CuadroTexto"/>
          <p:cNvSpPr/>
          <p:nvPr/>
        </p:nvSpPr>
        <p:spPr>
          <a:xfrm>
            <a:off x="428760" y="2333520"/>
            <a:ext cx="4143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1 CuadroTexto"/>
          <p:cNvSpPr/>
          <p:nvPr/>
        </p:nvSpPr>
        <p:spPr>
          <a:xfrm>
            <a:off x="4849920" y="642924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2"/>
          <p:cNvSpPr/>
          <p:nvPr/>
        </p:nvSpPr>
        <p:spPr>
          <a:xfrm>
            <a:off x="9000" y="3200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Times New Roman"/>
              </a:rPr>
              <a:t>Ca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7095600" y="31194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Times New Roman"/>
              </a:rPr>
              <a:t>An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7"/>
          <p:cNvGrpSpPr/>
          <p:nvPr/>
        </p:nvGrpSpPr>
        <p:grpSpPr>
          <a:xfrm>
            <a:off x="1937520" y="1341360"/>
            <a:ext cx="4088880" cy="4201200"/>
            <a:chOff x="1937520" y="1341360"/>
            <a:chExt cx="4088880" cy="4201200"/>
          </a:xfrm>
        </p:grpSpPr>
        <p:sp>
          <p:nvSpPr>
            <p:cNvPr id="139" name="Text Box 2"/>
            <p:cNvSpPr/>
            <p:nvPr/>
          </p:nvSpPr>
          <p:spPr>
            <a:xfrm>
              <a:off x="3155760" y="134136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"/>
            <p:cNvSpPr/>
            <p:nvPr/>
          </p:nvSpPr>
          <p:spPr>
            <a:xfrm>
              <a:off x="3173400" y="472428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4000680" y="285768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1"/>
            <p:cNvSpPr/>
            <p:nvPr/>
          </p:nvSpPr>
          <p:spPr>
            <a:xfrm rot="21401400">
              <a:off x="2050920" y="1555560"/>
              <a:ext cx="1008360" cy="3960720"/>
            </a:xfrm>
            <a:custGeom>
              <a:avLst/>
              <a:gdLst>
                <a:gd name="textAreaLeft" fmla="*/ 135000 w 1008360"/>
                <a:gd name="textAreaRight" fmla="*/ 873360 w 100836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 rot="16200000">
              <a:off x="1412640" y="305892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</a:rPr>
                <a:t>DEGRAD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>
              <a:off x="277164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5076720" y="1123920"/>
            <a:ext cx="1943280" cy="3960720"/>
            <a:chOff x="5076720" y="1123920"/>
            <a:chExt cx="1943280" cy="3960720"/>
          </a:xfrm>
        </p:grpSpPr>
        <p:sp>
          <p:nvSpPr>
            <p:cNvPr id="146" name="AutoShape 22"/>
            <p:cNvSpPr/>
            <p:nvPr/>
          </p:nvSpPr>
          <p:spPr>
            <a:xfrm rot="10800000">
              <a:off x="6012000" y="1123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 rot="16200000">
              <a:off x="5690880" y="325332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b0f0"/>
                  </a:solidFill>
                  <a:latin typeface="Arial"/>
                </a:rPr>
                <a:t>BIOSÍ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507672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3 CuadroTexto"/>
          <p:cNvSpPr/>
          <p:nvPr/>
        </p:nvSpPr>
        <p:spPr>
          <a:xfrm>
            <a:off x="390960" y="642960"/>
            <a:ext cx="85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Conjunto de reacciones químicas que se llevan a cabo en las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6 CuadroTexto"/>
          <p:cNvSpPr/>
          <p:nvPr/>
        </p:nvSpPr>
        <p:spPr>
          <a:xfrm>
            <a:off x="0" y="0"/>
            <a:ext cx="9144000" cy="724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7 CuadroTexto"/>
          <p:cNvSpPr/>
          <p:nvPr/>
        </p:nvSpPr>
        <p:spPr>
          <a:xfrm>
            <a:off x="785880" y="5904000"/>
            <a:ext cx="764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Anabolismo: del gri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n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hacia arriba”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llei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lanzar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atabolismo: del gri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kat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hacia abajo”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llei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lanzar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8 CuadroTexto"/>
          <p:cNvSpPr/>
          <p:nvPr/>
        </p:nvSpPr>
        <p:spPr>
          <a:xfrm>
            <a:off x="1133280" y="5715000"/>
            <a:ext cx="6645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965880" y="907920"/>
            <a:ext cx="12096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0"/>
          <p:cNvGrpSpPr/>
          <p:nvPr/>
        </p:nvGrpSpPr>
        <p:grpSpPr>
          <a:xfrm>
            <a:off x="2716200" y="907920"/>
            <a:ext cx="5449320" cy="1815840"/>
            <a:chOff x="2716200" y="907920"/>
            <a:chExt cx="5449320" cy="1815840"/>
          </a:xfrm>
        </p:grpSpPr>
        <p:sp>
          <p:nvSpPr>
            <p:cNvPr id="155" name="AutoShape 5"/>
            <p:cNvSpPr/>
            <p:nvPr/>
          </p:nvSpPr>
          <p:spPr>
            <a:xfrm>
              <a:off x="2716200" y="1052640"/>
              <a:ext cx="3887640" cy="1296720"/>
            </a:xfrm>
            <a:prstGeom prst="rightArrow">
              <a:avLst>
                <a:gd name="adj1" fmla="val 45657"/>
                <a:gd name="adj2" fmla="val 5595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          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7212240" y="907920"/>
              <a:ext cx="95328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CO</a:t>
              </a:r>
              <a:r>
                <a:rPr b="0" lang="es-ES_tradnl" sz="1400" spc="-1" strike="noStrike" baseline="-18000">
                  <a:solidFill>
                    <a:srgbClr val="000099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r>
                <a:rPr b="0" lang="es-ES_tradnl" sz="1400" spc="-1" strike="noStrike" baseline="-18000">
                  <a:solidFill>
                    <a:srgbClr val="660066"/>
                  </a:solidFill>
                  <a:latin typeface="Calibri"/>
                </a:rPr>
                <a:t>2</a:t>
              </a: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NH</a:t>
              </a:r>
              <a:r>
                <a:rPr b="0" lang="es-ES_tradnl" sz="1200" spc="-1" strike="noStrike" baseline="-18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8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0" lang="es-ES_tradnl" sz="1400" spc="-1" strike="noStrike" baseline="26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DP+HPO</a:t>
            </a:r>
            <a:r>
              <a:rPr b="0" lang="es-ES_tradnl" sz="1400" spc="-1" strike="noStrike" baseline="-18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1"/>
          <p:cNvGrpSpPr/>
          <p:nvPr/>
        </p:nvGrpSpPr>
        <p:grpSpPr>
          <a:xfrm>
            <a:off x="2916360" y="2060640"/>
            <a:ext cx="3570840" cy="1944720"/>
            <a:chOff x="2916360" y="2060640"/>
            <a:chExt cx="3570840" cy="1944720"/>
          </a:xfrm>
        </p:grpSpPr>
        <p:grpSp>
          <p:nvGrpSpPr>
            <p:cNvPr id="159" name="Group 13"/>
            <p:cNvGrpSpPr/>
            <p:nvPr/>
          </p:nvGrpSpPr>
          <p:grpSpPr>
            <a:xfrm>
              <a:off x="4354560" y="2708280"/>
              <a:ext cx="2132640" cy="1297080"/>
              <a:chOff x="4354560" y="2708280"/>
              <a:chExt cx="2132640" cy="1297080"/>
            </a:xfrm>
          </p:grpSpPr>
          <p:sp>
            <p:nvSpPr>
              <p:cNvPr id="160" name="Oval 10"/>
              <p:cNvSpPr/>
              <p:nvPr/>
            </p:nvSpPr>
            <p:spPr>
              <a:xfrm>
                <a:off x="4354560" y="2708280"/>
                <a:ext cx="1297080" cy="1297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FADH</a:t>
                </a:r>
                <a:r>
                  <a:rPr b="0" lang="es-ES_tradnl" sz="1400" spc="-1" strike="noStrike" baseline="-18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2"/>
              <p:cNvSpPr/>
              <p:nvPr/>
            </p:nvSpPr>
            <p:spPr>
              <a:xfrm>
                <a:off x="5709240" y="3067200"/>
                <a:ext cx="77796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14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6659640" y="4149720"/>
            <a:ext cx="158112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2"/>
          <p:cNvGrpSpPr/>
          <p:nvPr/>
        </p:nvGrpSpPr>
        <p:grpSpPr>
          <a:xfrm>
            <a:off x="655200" y="4076640"/>
            <a:ext cx="5572440" cy="1730160"/>
            <a:chOff x="655200" y="4076640"/>
            <a:chExt cx="5572440" cy="1730160"/>
          </a:xfrm>
        </p:grpSpPr>
        <p:sp>
          <p:nvSpPr>
            <p:cNvPr id="165" name="AutoShape 16"/>
            <p:cNvSpPr/>
            <p:nvPr/>
          </p:nvSpPr>
          <p:spPr>
            <a:xfrm>
              <a:off x="2195640" y="4365720"/>
              <a:ext cx="4032000" cy="1368360"/>
            </a:xfrm>
            <a:prstGeom prst="leftArrow">
              <a:avLst>
                <a:gd name="adj1" fmla="val 41296"/>
                <a:gd name="adj2" fmla="val 5687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             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            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655200" y="4221000"/>
              <a:ext cx="141984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000"/>
                  </a:solidFill>
                  <a:latin typeface="Calibri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9"/>
            <p:cNvSpPr/>
            <p:nvPr/>
          </p:nvSpPr>
          <p:spPr>
            <a:xfrm flipH="1">
              <a:off x="2842560" y="4076640"/>
              <a:ext cx="2376360" cy="647640"/>
            </a:xfrm>
            <a:custGeom>
              <a:avLst/>
              <a:gdLst>
                <a:gd name="textAreaLeft" fmla="*/ 415800 w 2376360"/>
                <a:gd name="textAreaRight" fmla="*/ 1722960 w 237636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16 CuadroTexto"/>
          <p:cNvSpPr/>
          <p:nvPr/>
        </p:nvSpPr>
        <p:spPr>
          <a:xfrm>
            <a:off x="1506600" y="142920"/>
            <a:ext cx="64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20e79"/>
                </a:solidFill>
                <a:latin typeface="Arial"/>
              </a:rPr>
              <a:t>RELACIÓN ENTRE VÍAS ANABÓLICAS Y CATABÓ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unciones del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338840" y="3989520"/>
            <a:ext cx="24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Ca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234040" y="3989520"/>
            <a:ext cx="193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f0ac4"/>
                </a:solidFill>
                <a:latin typeface="Calibri"/>
              </a:rPr>
              <a:t>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f0ac4"/>
                </a:solidFill>
                <a:latin typeface="Calibri"/>
              </a:rPr>
              <a:t>An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42960" y="2428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3- Utilizar los productos de la degradación como precursores para la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íntesi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moléculas constituyentes de órganos y tejidos y otras sustancias necesarias para su 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CuadroTexto"/>
          <p:cNvSpPr/>
          <p:nvPr/>
        </p:nvSpPr>
        <p:spPr>
          <a:xfrm>
            <a:off x="883800" y="1071720"/>
            <a:ext cx="75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btener energí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oder reducto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 partir de los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CuadroTexto"/>
          <p:cNvSpPr/>
          <p:nvPr/>
        </p:nvSpPr>
        <p:spPr>
          <a:xfrm>
            <a:off x="1312920" y="1643040"/>
            <a:ext cx="67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Degrada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mpuestos ingeridos con los ali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 los de reserva, en productos 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CuadroTexto"/>
          <p:cNvSpPr/>
          <p:nvPr/>
        </p:nvSpPr>
        <p:spPr>
          <a:xfrm>
            <a:off x="928800" y="1071720"/>
            <a:ext cx="757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1079640" y="1639800"/>
            <a:ext cx="696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2 CuadroTexto"/>
          <p:cNvSpPr/>
          <p:nvPr/>
        </p:nvSpPr>
        <p:spPr>
          <a:xfrm>
            <a:off x="588600" y="2505240"/>
            <a:ext cx="8117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Comic Sans MS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676080" y="1785960"/>
            <a:ext cx="846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Nuria Mitjans……………………….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Ethelina Cargnelutti……………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Ethel Larregle……………………….Prof. Colab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Alicia Molina…………………………… Prof.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86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188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191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194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1888920" y="2523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198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204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1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2"/>
          <p:cNvSpPr/>
          <p:nvPr/>
        </p:nvSpPr>
        <p:spPr>
          <a:xfrm>
            <a:off x="357120" y="0"/>
            <a:ext cx="828684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Dotum"/>
                <a:ea typeface="Dotum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572160" y="1214280"/>
            <a:ext cx="2397240" cy="1618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66"/>
                </a:solidFill>
                <a:latin typeface="Calibri"/>
              </a:rPr>
              <a:t>Conjunto de reacciones químicas que tienen lugar en las células o en el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Flecha abajo"/>
          <p:cNvSpPr/>
          <p:nvPr/>
        </p:nvSpPr>
        <p:spPr>
          <a:xfrm>
            <a:off x="7715160" y="2928960"/>
            <a:ext cx="142920" cy="7858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572160" y="3797280"/>
            <a:ext cx="2397240" cy="100872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VÍAS</a:t>
            </a:r>
            <a:r>
              <a:rPr b="1" lang="es-ES_tradnl" sz="2000" spc="-1" strike="noStrike">
                <a:solidFill>
                  <a:srgbClr val="660066"/>
                </a:solidFill>
                <a:latin typeface="Arial Black"/>
                <a:ea typeface="Dotum"/>
              </a:rPr>
              <a:t> 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RUTAS 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METABÓ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50880" y="461880"/>
            <a:ext cx="7840800" cy="5943600"/>
          </a:xfrm>
          <a:prstGeom prst="rect">
            <a:avLst/>
          </a:prstGeom>
          <a:ln w="0">
            <a:noFill/>
          </a:ln>
        </p:spPr>
      </p:pic>
      <p:sp>
        <p:nvSpPr>
          <p:cNvPr id="214" name="5 CuadroTexto"/>
          <p:cNvSpPr/>
          <p:nvPr/>
        </p:nvSpPr>
        <p:spPr>
          <a:xfrm>
            <a:off x="186840" y="212760"/>
            <a:ext cx="88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quema de relaciones entre rutas catabólicas y 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 CuadroTexto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 CuadroTexto"/>
          <p:cNvSpPr/>
          <p:nvPr/>
        </p:nvSpPr>
        <p:spPr>
          <a:xfrm>
            <a:off x="2097720" y="2214720"/>
            <a:ext cx="4548600" cy="15566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catalizadores biológ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onector recto"/>
          <p:cNvSpPr/>
          <p:nvPr/>
        </p:nvSpPr>
        <p:spPr>
          <a:xfrm>
            <a:off x="2428920" y="1643040"/>
            <a:ext cx="4071960" cy="144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6 Conector recto"/>
          <p:cNvSpPr/>
          <p:nvPr/>
        </p:nvSpPr>
        <p:spPr>
          <a:xfrm flipH="1">
            <a:off x="4357800" y="1643040"/>
            <a:ext cx="1440" cy="57168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9 CuadroTexto"/>
          <p:cNvSpPr/>
          <p:nvPr/>
        </p:nvSpPr>
        <p:spPr>
          <a:xfrm>
            <a:off x="27792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890640" y="285840"/>
            <a:ext cx="72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squemas de distintos tipos de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80240" y="1413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7"/>
          <p:cNvGrpSpPr/>
          <p:nvPr/>
        </p:nvGrpSpPr>
        <p:grpSpPr>
          <a:xfrm>
            <a:off x="2682720" y="1125360"/>
            <a:ext cx="1096560" cy="747000"/>
            <a:chOff x="2682720" y="1125360"/>
            <a:chExt cx="1096560" cy="747000"/>
          </a:xfrm>
        </p:grpSpPr>
        <p:sp>
          <p:nvSpPr>
            <p:cNvPr id="223" name="Text Box 6"/>
            <p:cNvSpPr/>
            <p:nvPr/>
          </p:nvSpPr>
          <p:spPr>
            <a:xfrm>
              <a:off x="3432600" y="14126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268272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4"/>
            <p:cNvSpPr/>
            <p:nvPr/>
          </p:nvSpPr>
          <p:spPr>
            <a:xfrm>
              <a:off x="28418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8"/>
          <p:cNvGrpSpPr/>
          <p:nvPr/>
        </p:nvGrpSpPr>
        <p:grpSpPr>
          <a:xfrm>
            <a:off x="3762360" y="1125360"/>
            <a:ext cx="1094760" cy="747000"/>
            <a:chOff x="3762360" y="1125360"/>
            <a:chExt cx="1094760" cy="747000"/>
          </a:xfrm>
        </p:grpSpPr>
        <p:sp>
          <p:nvSpPr>
            <p:cNvPr id="227" name="Text Box 7"/>
            <p:cNvSpPr/>
            <p:nvPr/>
          </p:nvSpPr>
          <p:spPr>
            <a:xfrm>
              <a:off x="4513320" y="14126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376236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39110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4915080" y="1125360"/>
            <a:ext cx="2217960" cy="747000"/>
            <a:chOff x="4915080" y="1125360"/>
            <a:chExt cx="2217960" cy="747000"/>
          </a:xfrm>
        </p:grpSpPr>
        <p:sp>
          <p:nvSpPr>
            <p:cNvPr id="231" name="Text Box 8"/>
            <p:cNvSpPr/>
            <p:nvPr/>
          </p:nvSpPr>
          <p:spPr>
            <a:xfrm>
              <a:off x="5653440" y="1412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6790680" y="14126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491508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606744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4980960" y="112536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62204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0"/>
          <p:cNvGrpSpPr/>
          <p:nvPr/>
        </p:nvGrpSpPr>
        <p:grpSpPr>
          <a:xfrm>
            <a:off x="4916520" y="1747800"/>
            <a:ext cx="2291760" cy="675720"/>
            <a:chOff x="4916520" y="1747800"/>
            <a:chExt cx="2291760" cy="675720"/>
          </a:xfrm>
        </p:grpSpPr>
        <p:sp>
          <p:nvSpPr>
            <p:cNvPr id="238" name="Line 18"/>
            <p:cNvSpPr/>
            <p:nvPr/>
          </p:nvSpPr>
          <p:spPr>
            <a:xfrm>
              <a:off x="4916520" y="1773000"/>
              <a:ext cx="57456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637960" y="1963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0"/>
            <p:cNvSpPr/>
            <p:nvPr/>
          </p:nvSpPr>
          <p:spPr>
            <a:xfrm>
              <a:off x="6818760" y="19638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6067440" y="2205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6214320" y="17478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1"/>
          <p:cNvGrpSpPr/>
          <p:nvPr/>
        </p:nvGrpSpPr>
        <p:grpSpPr>
          <a:xfrm>
            <a:off x="2269080" y="2494080"/>
            <a:ext cx="4848120" cy="747000"/>
            <a:chOff x="2269080" y="2494080"/>
            <a:chExt cx="4848120" cy="747000"/>
          </a:xfrm>
        </p:grpSpPr>
        <p:sp>
          <p:nvSpPr>
            <p:cNvPr id="244" name="Text Box 25"/>
            <p:cNvSpPr/>
            <p:nvPr/>
          </p:nvSpPr>
          <p:spPr>
            <a:xfrm>
              <a:off x="2269080" y="27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6"/>
            <p:cNvSpPr/>
            <p:nvPr/>
          </p:nvSpPr>
          <p:spPr>
            <a:xfrm>
              <a:off x="3421440" y="27813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7"/>
            <p:cNvSpPr/>
            <p:nvPr/>
          </p:nvSpPr>
          <p:spPr>
            <a:xfrm>
              <a:off x="4502520" y="2781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8"/>
            <p:cNvSpPr/>
            <p:nvPr/>
          </p:nvSpPr>
          <p:spPr>
            <a:xfrm>
              <a:off x="5642640" y="278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9"/>
            <p:cNvSpPr/>
            <p:nvPr/>
          </p:nvSpPr>
          <p:spPr>
            <a:xfrm>
              <a:off x="6779520" y="2781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0"/>
            <p:cNvSpPr/>
            <p:nvPr/>
          </p:nvSpPr>
          <p:spPr>
            <a:xfrm>
              <a:off x="2671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>
              <a:off x="375120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2"/>
            <p:cNvSpPr/>
            <p:nvPr/>
          </p:nvSpPr>
          <p:spPr>
            <a:xfrm>
              <a:off x="4903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>
              <a:off x="605628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4"/>
            <p:cNvSpPr/>
            <p:nvPr/>
          </p:nvSpPr>
          <p:spPr>
            <a:xfrm>
              <a:off x="28306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5"/>
            <p:cNvSpPr/>
            <p:nvPr/>
          </p:nvSpPr>
          <p:spPr>
            <a:xfrm>
              <a:off x="38998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6"/>
            <p:cNvSpPr/>
            <p:nvPr/>
          </p:nvSpPr>
          <p:spPr>
            <a:xfrm>
              <a:off x="4970160" y="249408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7"/>
            <p:cNvSpPr/>
            <p:nvPr/>
          </p:nvSpPr>
          <p:spPr>
            <a:xfrm>
              <a:off x="620964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94"/>
          <p:cNvGrpSpPr/>
          <p:nvPr/>
        </p:nvGrpSpPr>
        <p:grpSpPr>
          <a:xfrm>
            <a:off x="2627280" y="3141720"/>
            <a:ext cx="1800360" cy="0"/>
            <a:chOff x="2627280" y="3141720"/>
            <a:chExt cx="1800360" cy="0"/>
          </a:xfrm>
        </p:grpSpPr>
        <p:sp>
          <p:nvSpPr>
            <p:cNvPr id="258" name="Line 38"/>
            <p:cNvSpPr/>
            <p:nvPr/>
          </p:nvSpPr>
          <p:spPr>
            <a:xfrm>
              <a:off x="370692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0"/>
            <p:cNvSpPr/>
            <p:nvPr/>
          </p:nvSpPr>
          <p:spPr>
            <a:xfrm>
              <a:off x="2627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93"/>
          <p:cNvGrpSpPr/>
          <p:nvPr/>
        </p:nvGrpSpPr>
        <p:grpSpPr>
          <a:xfrm>
            <a:off x="4859280" y="3141720"/>
            <a:ext cx="1873080" cy="0"/>
            <a:chOff x="4859280" y="3141720"/>
            <a:chExt cx="1873080" cy="0"/>
          </a:xfrm>
        </p:grpSpPr>
        <p:sp>
          <p:nvSpPr>
            <p:cNvPr id="261" name="Line 39"/>
            <p:cNvSpPr/>
            <p:nvPr/>
          </p:nvSpPr>
          <p:spPr>
            <a:xfrm>
              <a:off x="4859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1"/>
            <p:cNvSpPr/>
            <p:nvPr/>
          </p:nvSpPr>
          <p:spPr>
            <a:xfrm>
              <a:off x="601164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96"/>
          <p:cNvGrpSpPr/>
          <p:nvPr/>
        </p:nvGrpSpPr>
        <p:grpSpPr>
          <a:xfrm>
            <a:off x="2612160" y="4051440"/>
            <a:ext cx="1040040" cy="2259720"/>
            <a:chOff x="2612160" y="4051440"/>
            <a:chExt cx="1040040" cy="2259720"/>
          </a:xfrm>
        </p:grpSpPr>
        <p:sp>
          <p:nvSpPr>
            <p:cNvPr id="264" name="Text Box 45"/>
            <p:cNvSpPr/>
            <p:nvPr/>
          </p:nvSpPr>
          <p:spPr>
            <a:xfrm>
              <a:off x="2612160" y="4602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70c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6"/>
            <p:cNvSpPr/>
            <p:nvPr/>
          </p:nvSpPr>
          <p:spPr>
            <a:xfrm>
              <a:off x="3305520" y="51321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2657880" y="58514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3"/>
            <p:cNvSpPr/>
            <p:nvPr/>
          </p:nvSpPr>
          <p:spPr>
            <a:xfrm>
              <a:off x="3279240" y="5707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59"/>
            <p:cNvSpPr/>
            <p:nvPr/>
          </p:nvSpPr>
          <p:spPr>
            <a:xfrm rot="5833800">
              <a:off x="2885400" y="5523840"/>
              <a:ext cx="571320" cy="5050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64"/>
            <p:cNvGrpSpPr/>
            <p:nvPr/>
          </p:nvGrpSpPr>
          <p:grpSpPr>
            <a:xfrm>
              <a:off x="2895480" y="4483080"/>
              <a:ext cx="660240" cy="885960"/>
              <a:chOff x="2895480" y="4483080"/>
              <a:chExt cx="660240" cy="885960"/>
            </a:xfrm>
          </p:grpSpPr>
          <p:sp>
            <p:nvSpPr>
              <p:cNvPr id="270" name="Text Box 52"/>
              <p:cNvSpPr/>
              <p:nvPr/>
            </p:nvSpPr>
            <p:spPr>
              <a:xfrm>
                <a:off x="3218040" y="460188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rc 58"/>
              <p:cNvSpPr/>
              <p:nvPr/>
            </p:nvSpPr>
            <p:spPr>
              <a:xfrm rot="302400">
                <a:off x="2916360" y="4840920"/>
                <a:ext cx="546120" cy="50472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rc 63"/>
              <p:cNvSpPr/>
              <p:nvPr/>
            </p:nvSpPr>
            <p:spPr>
              <a:xfrm flipH="1" flipV="1">
                <a:off x="3060720" y="4483080"/>
                <a:ext cx="216000" cy="4154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5"/>
            <p:cNvSpPr/>
            <p:nvPr/>
          </p:nvSpPr>
          <p:spPr>
            <a:xfrm>
              <a:off x="2922480" y="4051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7"/>
          <p:cNvGrpSpPr/>
          <p:nvPr/>
        </p:nvGrpSpPr>
        <p:grpSpPr>
          <a:xfrm>
            <a:off x="1901160" y="4051440"/>
            <a:ext cx="821880" cy="2259720"/>
            <a:chOff x="1901160" y="4051440"/>
            <a:chExt cx="821880" cy="2259720"/>
          </a:xfrm>
        </p:grpSpPr>
        <p:sp>
          <p:nvSpPr>
            <p:cNvPr id="275" name="Text Box 48"/>
            <p:cNvSpPr/>
            <p:nvPr/>
          </p:nvSpPr>
          <p:spPr>
            <a:xfrm>
              <a:off x="1953360" y="51782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54"/>
            <p:cNvSpPr/>
            <p:nvPr/>
          </p:nvSpPr>
          <p:spPr>
            <a:xfrm>
              <a:off x="2053800" y="585144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rc 60"/>
            <p:cNvSpPr/>
            <p:nvPr/>
          </p:nvSpPr>
          <p:spPr>
            <a:xfrm rot="11103600">
              <a:off x="2127240" y="5564160"/>
              <a:ext cx="574560" cy="50112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67"/>
            <p:cNvGrpSpPr/>
            <p:nvPr/>
          </p:nvGrpSpPr>
          <p:grpSpPr>
            <a:xfrm>
              <a:off x="1901160" y="4483080"/>
              <a:ext cx="793440" cy="919800"/>
              <a:chOff x="1901160" y="4483080"/>
              <a:chExt cx="793440" cy="919800"/>
            </a:xfrm>
          </p:grpSpPr>
          <p:sp>
            <p:nvSpPr>
              <p:cNvPr id="279" name="Arc 61"/>
              <p:cNvSpPr/>
              <p:nvPr/>
            </p:nvSpPr>
            <p:spPr>
              <a:xfrm rot="17043000">
                <a:off x="2093760" y="4812480"/>
                <a:ext cx="576000" cy="5000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62"/>
              <p:cNvSpPr/>
              <p:nvPr/>
            </p:nvSpPr>
            <p:spPr>
              <a:xfrm>
                <a:off x="1901160" y="467460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rc 66"/>
              <p:cNvSpPr/>
              <p:nvPr/>
            </p:nvSpPr>
            <p:spPr>
              <a:xfrm flipV="1">
                <a:off x="2268360" y="4483080"/>
                <a:ext cx="144720" cy="431280"/>
              </a:xfrm>
              <a:prstGeom prst="pie">
                <a:avLst/>
              </a:prstGeom>
              <a:noFill/>
              <a:ln w="442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68"/>
            <p:cNvSpPr/>
            <p:nvPr/>
          </p:nvSpPr>
          <p:spPr>
            <a:xfrm>
              <a:off x="2264760" y="40514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3"/>
          <p:cNvGrpSpPr/>
          <p:nvPr/>
        </p:nvGrpSpPr>
        <p:grpSpPr>
          <a:xfrm>
            <a:off x="4788000" y="3141720"/>
            <a:ext cx="2089080" cy="794520"/>
            <a:chOff x="4788000" y="3141720"/>
            <a:chExt cx="2089080" cy="794520"/>
          </a:xfrm>
        </p:grpSpPr>
        <p:grpSp>
          <p:nvGrpSpPr>
            <p:cNvPr id="284" name="Group 95"/>
            <p:cNvGrpSpPr/>
            <p:nvPr/>
          </p:nvGrpSpPr>
          <p:grpSpPr>
            <a:xfrm>
              <a:off x="4788000" y="3141720"/>
              <a:ext cx="2089080" cy="794520"/>
              <a:chOff x="4788000" y="3141720"/>
              <a:chExt cx="2089080" cy="794520"/>
            </a:xfrm>
          </p:grpSpPr>
          <p:sp>
            <p:nvSpPr>
              <p:cNvPr id="285" name="Line 42"/>
              <p:cNvSpPr/>
              <p:nvPr/>
            </p:nvSpPr>
            <p:spPr>
              <a:xfrm flipV="1">
                <a:off x="5940360" y="3213000"/>
                <a:ext cx="93672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43"/>
              <p:cNvSpPr/>
              <p:nvPr/>
            </p:nvSpPr>
            <p:spPr>
              <a:xfrm>
                <a:off x="5613120" y="34765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99"/>
                    </a:solidFill>
                    <a:latin typeface="Calibri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44"/>
              <p:cNvSpPr/>
              <p:nvPr/>
            </p:nvSpPr>
            <p:spPr>
              <a:xfrm>
                <a:off x="4788000" y="3141720"/>
                <a:ext cx="792000" cy="502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101"/>
            <p:cNvSpPr/>
            <p:nvPr/>
          </p:nvSpPr>
          <p:spPr>
            <a:xfrm>
              <a:off x="6020640" y="3141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02"/>
            <p:cNvSpPr/>
            <p:nvPr/>
          </p:nvSpPr>
          <p:spPr>
            <a:xfrm>
              <a:off x="5225760" y="314172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146520" y="1052640"/>
            <a:ext cx="1617120" cy="2376360"/>
            <a:chOff x="146520" y="1052640"/>
            <a:chExt cx="1617120" cy="2376360"/>
          </a:xfrm>
        </p:grpSpPr>
        <p:sp>
          <p:nvSpPr>
            <p:cNvPr id="291" name="AutoShape 104"/>
            <p:cNvSpPr/>
            <p:nvPr/>
          </p:nvSpPr>
          <p:spPr>
            <a:xfrm>
              <a:off x="1547640" y="105264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05"/>
            <p:cNvSpPr/>
            <p:nvPr/>
          </p:nvSpPr>
          <p:spPr>
            <a:xfrm>
              <a:off x="146520" y="198108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V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et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07"/>
          <p:cNvGrpSpPr/>
          <p:nvPr/>
        </p:nvGrpSpPr>
        <p:grpSpPr>
          <a:xfrm>
            <a:off x="218520" y="4005360"/>
            <a:ext cx="1658880" cy="2376360"/>
            <a:chOff x="218520" y="4005360"/>
            <a:chExt cx="1658880" cy="2376360"/>
          </a:xfrm>
        </p:grpSpPr>
        <p:sp>
          <p:nvSpPr>
            <p:cNvPr id="294" name="AutoShape 108"/>
            <p:cNvSpPr/>
            <p:nvPr/>
          </p:nvSpPr>
          <p:spPr>
            <a:xfrm>
              <a:off x="1605240" y="4005360"/>
              <a:ext cx="272160" cy="2376360"/>
            </a:xfrm>
            <a:custGeom>
              <a:avLst/>
              <a:gdLst>
                <a:gd name="textAreaLeft" fmla="*/ 173880 w 272160"/>
                <a:gd name="textAreaRight" fmla="*/ 272520 w 27216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09"/>
            <p:cNvSpPr/>
            <p:nvPr/>
          </p:nvSpPr>
          <p:spPr>
            <a:xfrm>
              <a:off x="218520" y="4933800"/>
              <a:ext cx="137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ic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etab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4"/>
          <p:cNvSpPr/>
          <p:nvPr/>
        </p:nvSpPr>
        <p:spPr>
          <a:xfrm>
            <a:off x="5149440" y="4572000"/>
            <a:ext cx="317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…….sustra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P, Q 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Calibri"/>
              </a:rPr>
              <a:t>B, C, 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metabol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a, b, c, d, e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 </a:t>
            </a: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9 CuadroTexto"/>
          <p:cNvSpPr/>
          <p:nvPr/>
        </p:nvSpPr>
        <p:spPr>
          <a:xfrm>
            <a:off x="5143680" y="4500720"/>
            <a:ext cx="35002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8"/>
          <p:cNvGrpSpPr/>
          <p:nvPr/>
        </p:nvGrpSpPr>
        <p:grpSpPr>
          <a:xfrm>
            <a:off x="4214880" y="714240"/>
            <a:ext cx="4608360" cy="5435640"/>
            <a:chOff x="4214880" y="714240"/>
            <a:chExt cx="4608360" cy="5435640"/>
          </a:xfrm>
        </p:grpSpPr>
        <p:pic>
          <p:nvPicPr>
            <p:cNvPr id="300" name="Picture 1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14880" y="714240"/>
              <a:ext cx="460836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6"/>
            <p:cNvSpPr/>
            <p:nvPr/>
          </p:nvSpPr>
          <p:spPr>
            <a:xfrm>
              <a:off x="6067440" y="4076640"/>
              <a:ext cx="1820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Vías an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diver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9"/>
          <p:cNvGrpSpPr/>
          <p:nvPr/>
        </p:nvGrpSpPr>
        <p:grpSpPr>
          <a:xfrm>
            <a:off x="254160" y="711360"/>
            <a:ext cx="4176720" cy="5508360"/>
            <a:chOff x="254160" y="711360"/>
            <a:chExt cx="4176720" cy="5508360"/>
          </a:xfrm>
        </p:grpSpPr>
        <p:pic>
          <p:nvPicPr>
            <p:cNvPr id="303" name="Picture 2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305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3"/>
            <p:cNvSpPr/>
            <p:nvPr/>
          </p:nvSpPr>
          <p:spPr>
            <a:xfrm>
              <a:off x="663480" y="3521160"/>
              <a:ext cx="182088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Calibri"/>
                </a:rPr>
                <a:t>Vías cat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Calibri"/>
                </a:rPr>
                <a:t>conver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3278160" y="5715000"/>
              <a:ext cx="1152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1 Rectángulo"/>
          <p:cNvSpPr/>
          <p:nvPr/>
        </p:nvSpPr>
        <p:spPr>
          <a:xfrm>
            <a:off x="4929120" y="2428920"/>
            <a:ext cx="3929040" cy="119124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"/>
              </a:rPr>
              <a:t>Sustancias que colaboran con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 CuadroTexto"/>
          <p:cNvSpPr/>
          <p:nvPr/>
        </p:nvSpPr>
        <p:spPr>
          <a:xfrm>
            <a:off x="1075680" y="2357280"/>
            <a:ext cx="2615760" cy="11912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CuadroTexto"/>
          <p:cNvSpPr/>
          <p:nvPr/>
        </p:nvSpPr>
        <p:spPr>
          <a:xfrm>
            <a:off x="5014080" y="4214880"/>
            <a:ext cx="3822840" cy="1373760"/>
          </a:xfrm>
          <a:prstGeom prst="rect">
            <a:avLst/>
          </a:prstGeom>
          <a:solidFill>
            <a:srgbClr val="fdeada"/>
          </a:solidFill>
          <a:ln w="414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OLIG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6 Conector recto"/>
          <p:cNvSpPr/>
          <p:nvPr/>
        </p:nvSpPr>
        <p:spPr>
          <a:xfrm>
            <a:off x="2357280" y="1927080"/>
            <a:ext cx="4071960" cy="180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6 Conector recto"/>
          <p:cNvSpPr/>
          <p:nvPr/>
        </p:nvSpPr>
        <p:spPr>
          <a:xfrm flipH="1">
            <a:off x="2142720" y="1928880"/>
            <a:ext cx="214200" cy="42840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9 Conector recto"/>
          <p:cNvSpPr/>
          <p:nvPr/>
        </p:nvSpPr>
        <p:spPr>
          <a:xfrm>
            <a:off x="6429240" y="1928880"/>
            <a:ext cx="28584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5 Conector recto"/>
          <p:cNvSpPr/>
          <p:nvPr/>
        </p:nvSpPr>
        <p:spPr>
          <a:xfrm>
            <a:off x="6715080" y="3714840"/>
            <a:ext cx="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9 CuadroTexto"/>
          <p:cNvSpPr/>
          <p:nvPr/>
        </p:nvSpPr>
        <p:spPr>
          <a:xfrm>
            <a:off x="482940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CuadroTexto"/>
          <p:cNvSpPr/>
          <p:nvPr/>
        </p:nvSpPr>
        <p:spPr>
          <a:xfrm>
            <a:off x="0" y="82080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2 CuadroTexto"/>
          <p:cNvSpPr/>
          <p:nvPr/>
        </p:nvSpPr>
        <p:spPr>
          <a:xfrm>
            <a:off x="4661640" y="242892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3 CuadroTexto"/>
          <p:cNvSpPr/>
          <p:nvPr/>
        </p:nvSpPr>
        <p:spPr>
          <a:xfrm>
            <a:off x="4590000" y="414324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3 Rectángulo"/>
          <p:cNvSpPr/>
          <p:nvPr/>
        </p:nvSpPr>
        <p:spPr>
          <a:xfrm>
            <a:off x="857160" y="1214280"/>
            <a:ext cx="792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zimas</a:t>
            </a:r>
            <a:r>
              <a:rPr b="1" lang="es-AR" sz="1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Nomenclatura y clasificación. Cofactores. Coenzimas: participación de </a:t>
            </a:r>
            <a:r>
              <a:rPr b="0" i="1" lang="es-AR" sz="1800" spc="-1" strike="noStrike">
                <a:solidFill>
                  <a:srgbClr val="7030a0"/>
                </a:solidFill>
                <a:latin typeface="Arial"/>
              </a:rPr>
              <a:t>Vitaminas y Minerales,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Compartimentalización de las enzi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inética enzimática. Factores que afectan la actividad enzimática, temperatura, pH, concentración de enzima y concentración de sustrato. Ecuación de Michaelis-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nhibición de enzimas, competitiva y no competitiva. Enzimas reguladoras. Enzimas alostéricas, modificación por unión co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soenzimas. Zimógenos. Enzimas endógenas y exó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1643040" y="452268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159b48"/>
                </a:solidFill>
                <a:latin typeface="Arial"/>
              </a:rPr>
              <a:t> 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n el estudi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ACCIONES ENZIMÁT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de cada VÍA METABÓLICA se destacará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VITAMINAS Y MINE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3009600" y="50004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omic Sans MS"/>
              </a:rPr>
              <a:t>PRÓXIMAS CLAS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 CuadroTexto"/>
          <p:cNvSpPr/>
          <p:nvPr/>
        </p:nvSpPr>
        <p:spPr>
          <a:xfrm>
            <a:off x="928800" y="4143240"/>
            <a:ext cx="7643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61" name="13 Rectángulo"/>
          <p:cNvSpPr/>
          <p:nvPr/>
        </p:nvSpPr>
        <p:spPr>
          <a:xfrm>
            <a:off x="1285920" y="314316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00080" y="2214720"/>
          <a:ext cx="7500960" cy="4143240"/>
        </p:xfrm>
        <a:graphic>
          <a:graphicData uri="http://schemas.openxmlformats.org/drawingml/2006/table">
            <a:tbl>
              <a:tblPr/>
              <a:tblGrid>
                <a:gridCol w="750960"/>
                <a:gridCol w="2624040"/>
                <a:gridCol w="1125720"/>
                <a:gridCol w="750600"/>
                <a:gridCol w="1500480"/>
                <a:gridCol w="749160"/>
              </a:tblGrid>
              <a:tr h="404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s del Primer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6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B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16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QUIM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ORGA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8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1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8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ROPOLOGIA Y FUNDAMENTOS DE LA ALIMENT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8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D COMUNIT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ANALI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05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(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IMICA BIOLOG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0"/>
                        </a:rPr>
                        <a:t>2013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2"/>
                        </a:rPr>
                        <a:t>Ver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79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ESTADÍSTICA APL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84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-252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00080" y="1214280"/>
          <a:ext cx="7500960" cy="1000440"/>
        </p:xfrm>
        <a:graphic>
          <a:graphicData uri="http://schemas.openxmlformats.org/drawingml/2006/table">
            <a:tbl>
              <a:tblPr/>
              <a:tblGrid>
                <a:gridCol w="4500720"/>
                <a:gridCol w="750600"/>
                <a:gridCol w="749520"/>
                <a:gridCol w="750960"/>
                <a:gridCol w="749160"/>
              </a:tblGrid>
              <a:tr h="7225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Mate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9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CENCIATURA EN NUTRICIÓN (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5" name="8 Rectángulo"/>
          <p:cNvSpPr/>
          <p:nvPr/>
        </p:nvSpPr>
        <p:spPr>
          <a:xfrm>
            <a:off x="2214720" y="714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ttp://planesestudio.unsl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Rectángulo"/>
          <p:cNvSpPr/>
          <p:nvPr/>
        </p:nvSpPr>
        <p:spPr>
          <a:xfrm>
            <a:off x="2071800" y="285840"/>
            <a:ext cx="49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alumnos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Rectángulo"/>
          <p:cNvSpPr/>
          <p:nvPr/>
        </p:nvSpPr>
        <p:spPr>
          <a:xfrm>
            <a:off x="2657880" y="0"/>
            <a:ext cx="36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www.facultaddesalud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3000" y="857160"/>
          <a:ext cx="7075440" cy="5000760"/>
        </p:xfrm>
        <a:graphic>
          <a:graphicData uri="http://schemas.openxmlformats.org/drawingml/2006/table">
            <a:tbl>
              <a:tblPr/>
              <a:tblGrid>
                <a:gridCol w="646200"/>
                <a:gridCol w="2500200"/>
                <a:gridCol w="1071720"/>
                <a:gridCol w="714240"/>
                <a:gridCol w="1428840"/>
                <a:gridCol w="714240"/>
              </a:tblGrid>
              <a:tr h="693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del Segundo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2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AT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5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OLOGIA GENERAL Y 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8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BIOLOGIA Y PARASITOLOGIA ALIMENT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8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NORMAL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(3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 DE LOS ALI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(8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MATERN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(84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 DIE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(86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ÓN NORMAL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3 Rectángulo"/>
          <p:cNvSpPr/>
          <p:nvPr/>
        </p:nvSpPr>
        <p:spPr>
          <a:xfrm>
            <a:off x="928800" y="285840"/>
            <a:ext cx="7215120" cy="6421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ALGUNAS PREGUNTAS QUE PODREMOS RESPONDER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QUÍMIC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Si sumerjo los choclos recién cosechados en agua hirviendo unos minutos, se conserva su sabor dulce. ¿Cómo ocurre est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¿Qué nutriente aporta más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energía 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en su degradación completa: un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azúcar o un aminoácido 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de igual número de átomos de C? ¿po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20e79"/>
                </a:solidFill>
                <a:latin typeface="Comic Sans MS"/>
              </a:rPr>
              <a:t>El arsénico es muy tóxico para la mayoría de los organis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20e79"/>
                </a:solidFill>
                <a:latin typeface="Comic Sans MS"/>
              </a:rPr>
              <a:t>¿cómo se expl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Comic Sans MS"/>
              </a:rPr>
              <a:t>¿Por qué vulgarmente hablamos de “colesterol bueno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Comic Sans MS"/>
              </a:rPr>
              <a:t>y “colesterol mal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Por qué un exceso de azúcares en la dieta conduce a un aumento de los depósitos de grasa y de peso corpo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¿Qué es la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urea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, cómo se produce y elimi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¿Qué sucede si se ingiere un exceso de </a:t>
            </a:r>
            <a:r>
              <a:rPr b="1" i="1" lang="es-ES_tradnl" sz="1600" spc="-1" strike="noStrike">
                <a:solidFill>
                  <a:srgbClr val="c20e79"/>
                </a:solidFill>
                <a:latin typeface="Comic Sans MS"/>
              </a:rPr>
              <a:t>Vitamina A</a:t>
            </a: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¿La deficiencia de cuál </a:t>
            </a:r>
            <a:r>
              <a:rPr b="1" i="1" lang="es-ES_tradnl" sz="1600" spc="-1" strike="noStrike">
                <a:solidFill>
                  <a:srgbClr val="c20e79"/>
                </a:solidFill>
                <a:latin typeface="Comic Sans MS"/>
              </a:rPr>
              <a:t>oligoelemento</a:t>
            </a: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 causa la enfermedad llamada “boci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46c0a"/>
                </a:solidFill>
                <a:latin typeface="Comic Sans MS"/>
              </a:rPr>
              <a:t>¿Cómo hace frente el organismo a una situación de “inanició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46c0a"/>
                </a:solidFill>
                <a:latin typeface="Comic Sans MS"/>
              </a:rPr>
              <a:t>o ayuno prolong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14280" y="1143000"/>
          <a:ext cx="6286680" cy="587520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232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ROGRAMA SINT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roducción a la Bioquímica de la Nutrición. Objeto de estudio. Herramientas para comprender el Metabolismo. Enzimas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Cadena respiratoria. Fosforilación oxidativa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3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 los carbohidratos: Digestión. Ví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Glicolítica. Lanzadera del glicerofosfato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4: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stinos del Piruvato. Ciclo de Krebs. Vía de las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Pentosa fosfat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5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Gluconeogénesi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l glucóge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6 y 7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los lípidos: Digestión. Transporte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Lipogénesis y Lipóli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8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Aminoácidos: Digestión. Degradación y destino de los esqueletos carbonados. Ciclo de la ure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9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Purinas, pirimidinas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 Metabolismo 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del grupo He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0: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Acidos Nucleicos: DNA y RNA. Síntesis de proteín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Tema 11: Minerales. Vitaminas.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Hormonas. Características y función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3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egración metabólica. Homeostasis.</a:t>
                      </a:r>
                      <a:br>
                        <a:rPr sz="1600"/>
                      </a:br>
                      <a:br>
                        <a:rPr sz="11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5 CuadroTexto"/>
          <p:cNvSpPr/>
          <p:nvPr/>
        </p:nvSpPr>
        <p:spPr>
          <a:xfrm>
            <a:off x="2791440" y="285840"/>
            <a:ext cx="279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IC.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ÍMICA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571680" y="642960"/>
            <a:ext cx="7572240" cy="5825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Tema 1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f0ac4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3f0ac4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3f0ac4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0ac4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3f0ac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Función de los nutrientes y otros componentes dietéticos en la nutr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ac4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Anabolismo y catabolismo. Vías, ciclos y cascad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nzim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Caracteres generales. Nomenclatura y clasificación. Coenzimas. Cinética enzimática. Factores que afectan la actividad enzimática: temperatura, pH, concentración de enzima y concentración de sustrato. Ecuación de Michaelis-Menten. Inhibición de enzimas, competitiva y no competitiva. Regulación enzimática: compartimentalización, enzimas alostéricas, modificación por unión covalente. Isoenzimas. Zimóge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233640" y="0"/>
            <a:ext cx="80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>
            <a:off x="-115920" y="2000160"/>
            <a:ext cx="933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Qué cambios ocurren en las sustancias incorporadas como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alimentos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uál es el origen de los productos de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desecho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ómo se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 sintetizan 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(producen) los componentes del organis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 flipH="1">
            <a:off x="0" y="285840"/>
            <a:ext cx="914400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Interrogantes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responder la Química Bioló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para comprender la Nutr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23:35:22Z</dcterms:created>
  <dc:creator>ali y facu</dc:creator>
  <dc:description/>
  <dc:language>en-US</dc:language>
  <cp:lastModifiedBy>ali y facu</cp:lastModifiedBy>
  <dcterms:modified xsi:type="dcterms:W3CDTF">2015-08-13T20:17:33Z</dcterms:modified>
  <cp:revision>290</cp:revision>
  <dc:subject/>
  <dc:title>Diapositiva 1</dc:title>
</cp:coreProperties>
</file>